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10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1E71-2736-4B36-9989-2C1453A40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7875-0BA1-43F5-8D14-CEB8A4C0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C535-B1EE-4AFF-9F13-CE730BE8F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272F-92AE-4B24-9825-DD0BDE223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E61B-A402-40B1-9B8F-347B42587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79FE-C4C9-4A5D-B106-599D3635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831B-0DB5-405F-8CA2-3F5D12E8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926D-953C-4D2A-8EBA-85EBFE06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40977-430D-4656-93C5-302A7452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08A6-FBC6-4681-88EF-2CFFBA49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78EAD-F410-49D1-95F9-4D51E12B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1CB1-D0DF-4A1E-A59D-4BB63306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3BAF-D948-437D-895C-25AFD937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61162-BCFB-4311-B48C-91151E74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887E4-BC57-49AB-9C0A-247DA608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70AF-5724-4F80-A08A-998089293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6F3A-BA56-4206-8EEF-18C63A3A6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4873-9A2C-497E-B787-C06BB86D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0D5D-61D9-43F4-8035-4D1DA596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1FE3-3A6B-4558-A4A3-9A071300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9DDA-923A-446D-9225-C2B96129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EF4D-78BC-4D23-8BAA-BB59CA28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A3A7-C5A4-419D-A790-0E369EAB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509E-AE19-4B6F-B334-9DA8302E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78C4-4ACE-477D-93F6-5F3FBE671C35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1B86-89BB-4DF5-A619-A26293F277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2ED7-299F-467B-8B6C-186E2F3E3DB2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5448-1255-45CF-A7A7-242C8B8508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Elizabeth I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895120" y="1828800"/>
            <a:ext cx="586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. 1558-16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lizzy1" descr=""/>
          <p:cNvPicPr/>
          <p:nvPr/>
        </p:nvPicPr>
        <p:blipFill>
          <a:blip r:embed="rId1"/>
          <a:stretch/>
        </p:blipFill>
        <p:spPr>
          <a:xfrm>
            <a:off x="3625920" y="2743200"/>
            <a:ext cx="259884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9D03-A526-4138-877E-3E2B26441F6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3F80B2A-ED14-400B-A477-DE50E118B7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80"/>
                </a:solidFill>
                <a:latin typeface="Arial Narrow"/>
              </a:rPr>
              <a:t>Events of Her Reign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se good advisors (ex: William Cecil, secretary and treasurer, 40 years of servi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pt England at peace during her re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8CCC-FD3E-4F2E-8BE2-58D2B3D69B9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FD1E4D-FA5C-4A44-A38C-70F12B90424B}" type="datetime1">
              <a:rPr lang="en-US"/>
              <a:t>07/30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Arial Narrow"/>
              </a:rPr>
              <a:t>Event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nomy…Stabilized economy by reissuing coins that were not de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uraged English enterprise and comme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ginnings of the Age of Explo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8950-7B8A-401C-8AED-BB36FDE0AFB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2F16FE-8491-4792-AB20-7BD83A265A0E}" type="datetime1">
              <a:rPr lang="en-US"/>
              <a:t>07/30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Arial Narrow"/>
              </a:rPr>
              <a:t>Event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t a strong Nav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Defended nation against Philip’s Spanish Armada (1588).  This was the high point of her reign and helped unite the n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BB87-A5FA-4C4A-B742-981BECE1286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8BA520-900F-416B-9A8C-B17FAF04CE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Arial Narrow"/>
              </a:rPr>
              <a:t>Event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glish Renaiss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etry &amp; Drama: Shakespeare, Edmund Spenser, Christopher Marlow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shakesbig" descr=""/>
          <p:cNvPicPr/>
          <p:nvPr/>
        </p:nvPicPr>
        <p:blipFill>
          <a:blip r:embed="rId1"/>
          <a:stretch/>
        </p:blipFill>
        <p:spPr>
          <a:xfrm>
            <a:off x="5486400" y="3962520"/>
            <a:ext cx="1920960" cy="213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CFC9-A240-4BC7-9753-FD1A5830678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1987A8-E127-4B7A-8EBB-257E5859E8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 Narrow"/>
              </a:rPr>
              <a:t>???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events from Elizabeth’s rule show that she governed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bsolutel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CD70-ED6B-4334-9010-9D9C3BABD65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843F72-30D6-4036-B661-FA8A6F24AE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66"/>
                </a:solidFill>
                <a:latin typeface="Arial Narrow"/>
              </a:rPr>
              <a:t>Examples of Absolute Rule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ieved she was a queen by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vine R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ough God hath raised me high, yet this I count the glory of my crown: that I have reigned with your loves…”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Quote from Elizabeth to her peop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92A2-5971-422D-AEB2-F10FBD87850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B8E5B8-A1F5-4020-B407-C2EE805A17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66"/>
                </a:solidFill>
                <a:latin typeface="Arial Narrow"/>
              </a:rPr>
              <a:t>Absolute Rul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anded royal government (ex: sheriffs and justices of the peace carried out tasks of local gov’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FB1A-8308-4B00-BD5D-BF0C641E7D5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03B012-3979-499C-A688-06A33EC2D8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66"/>
                </a:solidFill>
                <a:latin typeface="Arial Narrow"/>
              </a:rPr>
              <a:t>Absolute Rul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 cousin Mary, Queen of Scots, killed for plotting against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mary_prison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2603520" cy="312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A736-C3AD-4232-8791-27BA69E2D1A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0E6942-DEB0-496D-BBD1-6CC539831D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66"/>
                </a:solidFill>
                <a:latin typeface="Arial Narrow"/>
              </a:rPr>
              <a:t>Absolute Rul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d her subjects to eat fish on Friday’s in an attempt to build a skilled naval fl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brig" descr=""/>
          <p:cNvPicPr/>
          <p:nvPr/>
        </p:nvPicPr>
        <p:blipFill>
          <a:blip r:embed="rId1"/>
          <a:stretch/>
        </p:blipFill>
        <p:spPr>
          <a:xfrm>
            <a:off x="4724280" y="3733920"/>
            <a:ext cx="2362320" cy="22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0777-4B90-4119-9201-B6F1521FDCC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05EC13-0957-4D4E-884C-E457C4CC26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 Narrow"/>
              </a:rPr>
              <a:t>???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comparison with the other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BSOLUTE MONARC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we have studied, how well did Elizabeth d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Liz%20and%20sceptor" descr=""/>
          <p:cNvPicPr/>
          <p:nvPr/>
        </p:nvPicPr>
        <p:blipFill>
          <a:blip r:embed="rId1"/>
          <a:stretch/>
        </p:blipFill>
        <p:spPr>
          <a:xfrm>
            <a:off x="6019920" y="3581280"/>
            <a:ext cx="1919160" cy="266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CC55-DCEA-43BA-86EB-A36E8B559A3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9F55D5-4DD6-47CD-9282-AC73BB25AA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Personal Characteristic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1533-D. 1603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ughter of Henry VIII and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ife, Anne Boley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est reigning English monarch in nearly 2 centuries;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oman to successfully occupy English thr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henry-VIII_image1" descr=""/>
          <p:cNvPicPr/>
          <p:nvPr/>
        </p:nvPicPr>
        <p:blipFill>
          <a:blip r:embed="rId1"/>
          <a:stretch/>
        </p:blipFill>
        <p:spPr>
          <a:xfrm>
            <a:off x="3962520" y="3276720"/>
            <a:ext cx="1333440" cy="1323720"/>
          </a:xfrm>
          <a:prstGeom prst="rect">
            <a:avLst/>
          </a:prstGeom>
          <a:ln w="0">
            <a:noFill/>
          </a:ln>
        </p:spPr>
      </p:pic>
      <p:pic>
        <p:nvPicPr>
          <p:cNvPr id="91" name="boleyn-main2" descr=""/>
          <p:cNvPicPr/>
          <p:nvPr/>
        </p:nvPicPr>
        <p:blipFill>
          <a:blip r:embed="rId2"/>
          <a:stretch/>
        </p:blipFill>
        <p:spPr>
          <a:xfrm>
            <a:off x="6172200" y="342900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4BC7-6619-443B-BFC1-179949B5369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8833B8-A719-4F47-B187-46E85FB583CD}" type="datetime1">
              <a:rPr lang="en-US"/>
              <a:t>07/30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Liz-signature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902560" cy="2903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7996-8A8D-45B8-A662-84612C11CB03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5CB28F-7D43-49B4-8BA8-E8DD524954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Personal Char. Cont.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duc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Given better than usual 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st tutors, spok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ral language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ved her people &amp; they love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Visited with her people, gave great impromptu spee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28F8-AE50-4806-BC4E-460FEB927A3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53F6DB-C0C8-4992-8D12-E470F04CF8B2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Personal Char. Cont.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ed effectively with Parliament and Privy Council (small advisory body of important state officia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C5F1-D484-4280-9325-E6302CBA379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410821-B4BB-4AAA-8DD0-E306B85B8954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ontinued….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rgin Quee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Never married so she would not have to share power, and to keep pe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ver produced an heir (las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the Tudor monarch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ggested she marry Philip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I of Spain (half-sister Mary’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sban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9C5A-3D28-460F-97C1-C2808D76FE3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D4C6A1-BB1D-4A78-BC45-3993FAE2774E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ontinued…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aborate clot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QueenEliz" descr=""/>
          <p:cNvPicPr/>
          <p:nvPr/>
        </p:nvPicPr>
        <p:blipFill>
          <a:blip r:embed="rId1"/>
          <a:stretch/>
        </p:blipFill>
        <p:spPr>
          <a:xfrm>
            <a:off x="4191120" y="2479680"/>
            <a:ext cx="4267080" cy="392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1D6E-CA07-4B00-9A79-3905EA2DD96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2F2410-05BA-41A2-8600-D55F37F6CE72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 Narrow"/>
              </a:rPr>
              <a:t>???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parts of Elizabeth’s character would help her to become a powerful monarc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BD10832_" descr=""/>
          <p:cNvPicPr/>
          <p:nvPr/>
        </p:nvPicPr>
        <p:blipFill>
          <a:blip r:embed="rId1"/>
          <a:stretch/>
        </p:blipFill>
        <p:spPr>
          <a:xfrm>
            <a:off x="3581280" y="3657600"/>
            <a:ext cx="4038840" cy="264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00AF-6477-4A5F-BB5E-636EEBAD580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598573-1750-4510-948A-A239A44272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66880" y="5331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Arial Narrow"/>
              </a:rPr>
              <a:t>Religious Policy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rotestant who saw her people 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glis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not Protestant or Cathol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ed French Protestants struggling for religious freedom under Catholic Monarch (1562-156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6B42-A59D-4E48-96AF-AFBD0324F21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B0CE61-CF8C-486D-8D19-FDA271712CAF}" type="datetime1">
              <a:rPr lang="en-US"/>
              <a:t>07/30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 Narrow"/>
              </a:rPr>
              <a:t>???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could Elizabeth’s religious policies cause problems at home and/or abro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BL00921_" descr=""/>
          <p:cNvPicPr/>
          <p:nvPr/>
        </p:nvPicPr>
        <p:blipFill>
          <a:blip r:embed="rId1"/>
          <a:stretch/>
        </p:blipFill>
        <p:spPr>
          <a:xfrm>
            <a:off x="6629400" y="3962520"/>
            <a:ext cx="142560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7184-63B9-4053-882B-65067920373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6F7FF5-7F57-4973-8A01-10C28DF104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bbraman</cp:lastModifiedBy>
  <dcterms:modified xsi:type="dcterms:W3CDTF">2003-09-15T19:54:34Z</dcterms:modified>
  <cp:revision>7</cp:revision>
  <dc:subject/>
  <dc:title>PowerPoint Presentation</dc:title>
</cp:coreProperties>
</file>